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AFE3F6-298D-40CC-B85F-35974012C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assessment – scale or Frayer model to compare to pre-assess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58680" indent="0"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er to handout and link on 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862-7BE7-494C-96E9-C8835C05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27C-F972-4D43-8980-1F1AC25F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0B5-7EA2-42B5-B9FA-178A20D3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40B-E029-47BA-BA04-90DC58FF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242-75E9-4C77-BB82-ACBC2FA9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570-7854-4E3B-A286-049C9A24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EB3-6FFA-4BA4-9637-0EA8901E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DD7-1248-49DF-9BE2-1F5B54BB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7F2-25D2-4A9D-9DED-E2EF7488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FFC-A6FB-4660-8303-358AC63E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D8C-A752-43E6-BE6A-067566DA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41B-001E-4A19-94B0-1218F6CB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D9A0-C99E-4A6B-B79E-66FEFE35E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 Grade 6-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4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85960" y="428760"/>
            <a:ext cx="355608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of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7391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31840" y="685800"/>
            <a:ext cx="508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85960" y="428760"/>
            <a:ext cx="355608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17000" tIns="46800" bIns="4680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9160" y="1598760"/>
            <a:ext cx="744480" cy="839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4120" y="1527120"/>
            <a:ext cx="306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Coming to the Ques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1063440" cy="878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07440" y="2205000"/>
            <a:ext cx="176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Reconnaissa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634000" y="4419720"/>
            <a:ext cx="992160" cy="66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06520" y="4419720"/>
            <a:ext cx="168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Action an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Data Collec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813120" y="5108400"/>
            <a:ext cx="85716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21520" y="6018120"/>
            <a:ext cx="115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Reflec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751040" y="3429000"/>
            <a:ext cx="84132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43920" y="3348000"/>
            <a:ext cx="59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old"/>
                <a:ea typeface="Arial Bold"/>
              </a:rPr>
              <a:t>Aha 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 rot="18000000">
            <a:off x="2514600" y="4723920"/>
            <a:ext cx="992160" cy="992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 rot="8460000">
            <a:off x="5788800" y="335088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2540000">
            <a:off x="4800240" y="510516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539400">
            <a:off x="2436480" y="220824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4619400">
            <a:off x="4496400" y="1675440"/>
            <a:ext cx="99036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le Grouping and 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6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ectful Tasks and 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6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85960" y="428760"/>
            <a:ext cx="355608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34:11Z</dcterms:created>
  <dc:creator>nancy.schultz</dc:creator>
  <dc:description/>
  <dc:language>en-US</dc:language>
  <cp:lastModifiedBy>nancy.schultz</cp:lastModifiedBy>
  <dcterms:modified xsi:type="dcterms:W3CDTF">2010-04-30T15:33:23Z</dcterms:modified>
  <cp:revision>2</cp:revision>
  <dc:subject/>
  <dc:title>DI Grade 6-9 Final Day</dc:title>
</cp:coreProperties>
</file>